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D35-D018-4613-A5ED-5358C3F5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6E6-BB3A-40A4-AE1A-18A62914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D19E-7995-454E-BA18-333D4239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2F63-1A74-4083-A4DF-F8DEE084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068-9BBB-426C-A8C3-BCCC4ED4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9DE-657D-4FF8-BA2A-DBD0EAB6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323-8959-48A7-BC91-D7D092A3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849-3502-48D6-ADE3-19A6C8DE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041B-F7D7-4C28-86BF-90EA5DEE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400F-7E17-4B29-873A-5CB4C822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F015-F111-41BB-88A6-86A9C6A1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2BC-2DE1-4057-BF7E-B3A6586A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5394-4FC7-4DE1-8B7A-A762BA91B688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Test</a:t>
            </a: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898989"/>
                </a:solidFill>
                <a:latin typeface="Calibri"/>
              </a:rPr>
              <a:t>Dette er en liten te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898989"/>
                </a:solidFill>
                <a:latin typeface="Calibri"/>
              </a:rPr>
              <a:t>Tok en dram, dro på fe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898989"/>
                </a:solidFill>
                <a:latin typeface="Calibri"/>
              </a:rPr>
              <a:t>Skulle studert, skulle le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898989"/>
                </a:solidFill>
                <a:latin typeface="Calibri"/>
              </a:rPr>
              <a:t>Fillern ååh, jeg blir aldri pre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0T10:04:26Z</dcterms:created>
  <dc:creator>Runar</dc:creator>
  <dc:description/>
  <dc:language>en-US</dc:language>
  <cp:lastModifiedBy>Runar</cp:lastModifiedBy>
  <dcterms:modified xsi:type="dcterms:W3CDTF">2009-12-30T10:06:51Z</dcterms:modified>
  <cp:revision>1</cp:revision>
  <dc:subject/>
  <dc:title>Test </dc:title>
</cp:coreProperties>
</file>